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B0E2-12E6-4800-ACFB-90A0DBF099D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29A2-8E60-40A4-891F-3EA807FE6DC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95A0-4C46-41AB-BCCD-ED0CD7C6A47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D0A-DF7F-4AC4-A3E0-F6B0BA58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807-42A4-42DC-AE85-D292D5F2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817-D549-4351-92E5-128C7C3C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D49-0EDD-408B-B683-31FA347B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1D5-B5AE-4C9A-B833-80F20419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DA6-5C00-4805-A18D-1D7D3397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7E6-3109-4FFA-BDF3-5FB38721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415-0BDF-4BA7-9BC9-DD4DB1DB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E17-D984-4CD0-82AC-FCD8BAB7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20D-BB8B-42DF-B894-F0B1D31B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C44-629C-4D6B-BDC8-3DB37E36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2D0-3F01-4343-88E7-18EC429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133-B203-4E2C-8A84-EBB651BE8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Frente_Amplio_Progresista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042920" y="476280"/>
            <a:ext cx="69138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ETODODOLOGIA ESTUDIO DE CAS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    “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Como partir de lo general hacia lo partic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Hasta llegar a una conclusión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Método Harv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20200" y="189000"/>
            <a:ext cx="12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eso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723960"/>
          <a:ext cx="8785440" cy="56689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- Analizar el material de estudio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- Lectura del caso y antecedentes; [marcar o subrayar datos importa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- Sacar un 1er. resumen (ubicar el problema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- Releer el caso ( marcar hecho relevantes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- Preparar un 2o resumen; [eliminar duplicidades datos irrelevantes]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- Dar forma a tu propuesta; [análisis aplicando actitud interrogante]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- Documentar la propuesta; (datos, cifras indicadores de medición etc.]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- Presentarla a tu equipo tu propuesta para; (análisis y discusión 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- Preparar consenso con tu equipo; [tomar en cuenta diferentes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s, criterios y experiencias]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-Elaborar un resumen del caso ( consenso del equipo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-Presentación ante un consejo o reunión  plenaria, [ exposición para 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ate]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Sacar de cada presentación tu propio resumen  y  tu personal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.[nuevos conocimientos, actitud analítica y creativa]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 rot="5400000">
            <a:off x="2556000" y="186840"/>
            <a:ext cx="3311280" cy="6769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jemplo de formato tipo banderí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arte de lo general            a lo particula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26920" y="1268280"/>
            <a:ext cx="100836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195640" y="1557360"/>
            <a:ext cx="1224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708360" y="1844640"/>
            <a:ext cx="1295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..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219640" y="2133720"/>
            <a:ext cx="14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men;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lus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877080" y="2709720"/>
            <a:ext cx="129528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, program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ables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3851280" y="38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459080" y="333360"/>
            <a:ext cx="65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RMATO, DATOS  E INFORMACION 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24000" y="1052640"/>
            <a:ext cx="8731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todología desarrollada  en la Universidad Harvard;  Boston massachset, USA.  Adoptada en  México por el IPADE  y  U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los años 60as’, para el manejo efectivo de la comunicación y funcion Directiva; (Managment) y se ha venido perfeccionando a traves del tiempo como documento de juntas y reuniones ejecutivas porque facilita 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179280" y="3343320"/>
          <a:ext cx="8785440" cy="21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343320"/>
                    <a:ext cx="87854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79280" y="189000"/>
          <a:ext cx="8739360" cy="6625800"/>
        </p:xfrm>
        <a:graphic>
          <a:graphicData uri="http://schemas.openxmlformats.org/drawingml/2006/table">
            <a:tbl>
              <a:tblPr/>
              <a:tblGrid>
                <a:gridCol w="630000"/>
                <a:gridCol w="1457640"/>
                <a:gridCol w="1657800"/>
                <a:gridCol w="537840"/>
                <a:gridCol w="216000"/>
                <a:gridCol w="2103480"/>
                <a:gridCol w="2136600"/>
              </a:tblGrid>
              <a:tr h="263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N.I.T.E.C.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OLOGIA DE CA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OR:                               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FACTOR:  "                                              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                                                 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A :   /           /2008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:- " (Tema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"                                       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O N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.Ev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/ ANTECEDE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TARIOS PROBLE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 A L I S I S / RESULTA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men y Síntesi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fech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mportantes / relevantes)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dentificados o relevante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valuación de informació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puestas y programas/ Estrategi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J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sponsables y fecha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480" y="-525600"/>
          <a:ext cx="9131040" cy="7267680"/>
        </p:xfrm>
        <a:graphic>
          <a:graphicData uri="http://schemas.openxmlformats.org/drawingml/2006/table">
            <a:tbl>
              <a:tblPr/>
              <a:tblGrid>
                <a:gridCol w="581040"/>
                <a:gridCol w="2288880"/>
                <a:gridCol w="1892520"/>
                <a:gridCol w="1866960"/>
                <a:gridCol w="25016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P.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ODOLOGÍA DE C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ESOR: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: LOG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99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FACTOR: EL PROCESO LOGÍST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IME GUILLERMO SÁNCHE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 :   14/    05    /2008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o #4.- MARTÍNEZ JUÁREZ AZUCE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 de Cas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X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ES CASTAÑEDA VANE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Ev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CHOS /ANTECEDE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ENTARIOS PROBLE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N Á L I S I S/RESULTA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men y Síntesi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mportantes / relevantes)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dentificados o relevante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valuación de informació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puestas y programas/ Estrategi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ingeniero mexicano Ezequiel Ordóñez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ME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supervisión es continu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Hacer planeaciones estratég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ubre  un yacimiento petrolero llamad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Se ha perdido liderazgo 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o no se acepta el diagnostic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mediano y largo plaz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Pez,  ubicado en el Campo de El Éba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etitividad en el mercad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comunicación con e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valuar posición competitiv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San Luis Potosí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BIER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sonal no es la adecuada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stablecer auto evaluaciones, ta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eriormente, Venustiano Carranza cre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No hay un líder que guíe a Peme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xiste corrupción de l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infraestructura, área administra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Comisión Técnica del Petróle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ido a múltiples interes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fera más alta de Pemex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producció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stitución Política de los Estado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Manipula las cifras para presenta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xiste la carta de distribu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stablecer condiciones de segur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s Mexicanos determina el contro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 diagnostico a la sociedad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funcion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 el medio ambient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to de la Nación sobre todas las riqueza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E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l liderazgo es ejercido 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Buscar energías alternativas paro 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 subsuel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Ya no cree en sus representa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era deficient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ender sólo del petróle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en México 80 compañías petrolera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ETITIV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competitividad a disminui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Dejar de manejar las cifras de Pemex p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ras y 17 exportadoras, cuyo capit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Se ha perdido competitiv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el mercad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mitir la Modernización de Pemex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a integrado en un 91.5% norteameric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ndia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Pemex es exprimido fiscalm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Mejorar la relación con la sociedad p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irma el primer Contrato Colectivo 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 la Secretaría de Hacienda 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olucrar a misma en las decisio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bajo entre el Sindicato de Trabajador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No hay un ingreso destinado p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édito Públic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madas en Pemex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roleros de la República Mexican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odernización de Pemex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No hay buenas condicio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Aprovechar la tecnología ya existente e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expide una nueva Ley Orgánica 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LACIO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 aceptar el cambi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paí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róleos Mexicanos y Organismo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l mantenimiento en l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economía es depend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Contratar a ingenieros mexicanos p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sidiari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aestructura no es optim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 petróle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ibuir al empleo del paí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EX lanza al mercado nacional la gasol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LOR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sociedad ya no creé en l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Adquirir compromisos con empre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um Ultra Bajo Azufr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Se garantiza la seguridad de l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igentes de Pemex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roler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Ante la tentativa del gobierno de reformar s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es a explor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No se buscan energías renovab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rantizar el desarrollo integral de Peme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ítica energética a través de la Comisión 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 alternativ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 permita el crecimiento económico de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Energía se levantaron contra la decisión 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Se a disminuido la produc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protección al medio amb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, en todos sus ámbit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tizarlo con el Frente Amplio Progresist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hidrocarbur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 deficient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21"/>
          <p:cNvSpPr/>
          <p:nvPr/>
        </p:nvSpPr>
        <p:spPr>
          <a:xfrm>
            <a:off x="179280" y="536400"/>
            <a:ext cx="889344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glas para la exposición en sesión plena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dir la palabra levantando la mano; ( respeto a quien tenga la palab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tivar la participación de todos.( siempre tenemos alg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render de los demá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entar al tím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temer a Equivocar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temer a que nos pregun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al audaz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ciar la discusión ordenada y respetuosa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 precisos concisos y objetiv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uega  Roll. del Moderador .- No resuelve los casos, revira las opiniones y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roalimenta información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403280" y="2394000"/>
          <a:ext cx="6696000" cy="118908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Todo esfuerzo tiene su recompensa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recer, aprender mas y compart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los demá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557160" y="5684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f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95280" y="148428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odología Estudio de caso.-U. Harvard; / IPADE / Universidad Panamericana de México, A.C.; Carlos Llano Cifuentes; [Mc graw Hill-IPADE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untes Proceso, Formatos y ejemplos de Estudio de caso; Autor Lic. Jaime G. Sanchez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vistas Expansión sobre el tema metodología Estudio de caso [2002/2005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6600" y="133200"/>
            <a:ext cx="86821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79280" y="907920"/>
          <a:ext cx="8425080" cy="2163960"/>
        </p:xfrm>
        <a:graphic>
          <a:graphicData uri="http://schemas.openxmlformats.org/drawingml/2006/table">
            <a:tbl>
              <a:tblPr/>
              <a:tblGrid>
                <a:gridCol w="1204920"/>
                <a:gridCol w="1201680"/>
                <a:gridCol w="1204920"/>
                <a:gridCol w="1202040"/>
                <a:gridCol w="1204920"/>
                <a:gridCol w="1201680"/>
                <a:gridCol w="1204920"/>
              </a:tblGrid>
              <a:tr h="4597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ESTUDIO DE CASO.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el proceso para dar a la luz  hechos, análisis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y síntesis de casos estudio y situaciones reales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form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64"/>
          <p:cNvSpPr/>
          <p:nvPr/>
        </p:nvSpPr>
        <p:spPr>
          <a:xfrm>
            <a:off x="1792080" y="210816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jetiva, concreta y propos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0"/>
          <p:cNvSpPr/>
          <p:nvPr/>
        </p:nvSpPr>
        <p:spPr>
          <a:xfrm>
            <a:off x="522720" y="258300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5"/>
          <p:cNvSpPr/>
          <p:nvPr/>
        </p:nvSpPr>
        <p:spPr>
          <a:xfrm>
            <a:off x="539640" y="3070080"/>
            <a:ext cx="813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écnica y herramienta desarrollada en la Universidad de Harvard USA , para  estudiar y sintetizar casos y  situaciones reales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ortada a  México por su filial  IPADE que se encargo de diseminarla y compartirla  en Univers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 --     empresas  por su exitoso métod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1"/>
          <p:cNvSpPr/>
          <p:nvPr/>
        </p:nvSpPr>
        <p:spPr>
          <a:xfrm>
            <a:off x="250920" y="189000"/>
            <a:ext cx="818964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todolog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ar hechos relevantes; comentarios y datos importantes; Análisis de información  y hechos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men, síntesis, propuesta  decisiones y recomendaciones:;( designación de responsables y fechas de ejecución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468360" y="30686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parar la opinión personal &gt; de los problemas y su jerarquía -&gt; ejecutar fase de análisis y concebir  soluciones posibles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7"/>
          <p:cNvSpPr/>
          <p:nvPr/>
        </p:nvSpPr>
        <p:spPr>
          <a:xfrm>
            <a:off x="539640" y="4011480"/>
            <a:ext cx="78487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 Aprender =  Escribir es descubrir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saber transmitir los conocimientos e ideas a los dem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bemos de localizar donde están los problemas =  cuando l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s mugen es porque están moribu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donde les duele  y  a tiempo, ( diagnostico del medico como experto en anatomí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tinua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8"/>
          <p:cNvSpPr/>
          <p:nvPr/>
        </p:nvSpPr>
        <p:spPr>
          <a:xfrm>
            <a:off x="1547640" y="6308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99"/>
          <p:cNvSpPr/>
          <p:nvPr/>
        </p:nvSpPr>
        <p:spPr>
          <a:xfrm>
            <a:off x="108000" y="1890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misa Japone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.- es mas fácil copiar, reproducir, mejorar  y optimizar que inventar :  Ejemplo.- que podría yo hacer si fuera responsable de esta empresa    ante un problema determinado ?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menta el dialogo y la participación de los involucrados bajo diferentes enfoques y perspectiva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luye, determina y  defin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 de lo subjetivo a lo objetiv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 un método sano y de respeto mutuo para la toma de decisione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a nuestro sentido de comprensión (político, social y económic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a nuestra capacidad  trabajo en equipo y participativ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quirir una perspectiva de síntesis en los negocios/ y todo tipo de situaciones o problema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ar nuestro conocimiento social, de negociación y relaciones huma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ante una sesión plenaria o grupo nuestras propuestas y  recomendacione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189000"/>
            <a:ext cx="72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licar Actitud interrog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64560" y="666720"/>
            <a:ext cx="66240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eso interrogativ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….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que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o…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do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en……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to…..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 ; #; %;  tiempo u otra unidad de med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====================================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 este proceso nos leva hacia un análisis exhaus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situación, problema, o contingenci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s permite crear escenarios y/o alternativas de solu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3850920" y="1125360"/>
          <a:ext cx="18795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0920" y="1125360"/>
                    <a:ext cx="18795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7"/>
          <p:cNvSpPr/>
          <p:nvPr/>
        </p:nvSpPr>
        <p:spPr>
          <a:xfrm>
            <a:off x="735480" y="5681520"/>
            <a:ext cx="52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s facilita la toma de decis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erden la información es poder y el po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e tomar buenas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8"/>
          <p:cNvGraphicFramePr/>
          <p:nvPr/>
        </p:nvGraphicFramePr>
        <p:xfrm>
          <a:off x="6948360" y="3213000"/>
          <a:ext cx="1656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3213000"/>
                    <a:ext cx="1656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9"/>
          <p:cNvGraphicFramePr/>
          <p:nvPr/>
        </p:nvGraphicFramePr>
        <p:xfrm>
          <a:off x="6732720" y="4365720"/>
          <a:ext cx="1844640" cy="23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4365720"/>
                    <a:ext cx="184464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47840" y="784080"/>
            <a:ext cx="801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es Problema…………………………………………………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ción  analítica………………………………………………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26920" y="69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692280"/>
            <a:ext cx="7991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ición y alcan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situación diferente a la rutina o aparición síntomas;  -se recomienda documentar con información relevante; datos, hechos, cifras, muestras o ejemplos que debe ser listada y clasificad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651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trumentos en la administración de proyectos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5084640"/>
            <a:ext cx="1368360" cy="1513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3280" y="4941720"/>
            <a:ext cx="1368360" cy="1079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, $;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fras; #;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3429000"/>
            <a:ext cx="1728720" cy="72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3141720"/>
            <a:ext cx="1368360" cy="100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ch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v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5230800"/>
            <a:ext cx="1512720" cy="719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3357720"/>
            <a:ext cx="136836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536724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est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149720"/>
            <a:ext cx="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4076640"/>
            <a:ext cx="129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00360" y="414972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5229360"/>
            <a:ext cx="71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292720" y="530064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755640" y="115920"/>
            <a:ext cx="2664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572000" y="189000"/>
            <a:ext cx="4176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.-  Marco estructur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lementos conceptuales para el Análisi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un problema o situación o desv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55640" y="836640"/>
            <a:ext cx="2664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55640" y="148428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55640" y="2131920"/>
            <a:ext cx="2664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755640" y="2924280"/>
            <a:ext cx="266400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55640" y="364500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755640" y="429264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755640" y="4940280"/>
            <a:ext cx="2664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755640" y="5732640"/>
            <a:ext cx="2664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474920" y="396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uación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906480" y="760320"/>
            <a:ext cx="261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álisis del Entorno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tud interrogante  ?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690480" y="1484280"/>
            <a:ext cx="28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ció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785880" y="2133720"/>
            <a:ext cx="257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álisis de hallaz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 satisfacer neces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874800" y="2852640"/>
            <a:ext cx="21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ción 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 proyecto/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831960" y="359712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ción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762120" y="431640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nativas  de 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755640" y="486900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cisión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/Cost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enefic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ntabilidad / invers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900000" y="5661000"/>
            <a:ext cx="257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cionalización de la mejor alternativa de 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2124000" y="62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2124000" y="1197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>
            <a:off x="2124000" y="1846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5"/>
          <p:cNvSpPr/>
          <p:nvPr/>
        </p:nvSpPr>
        <p:spPr>
          <a:xfrm>
            <a:off x="2124000" y="2637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>
            <a:off x="212400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2124000" y="4005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>
            <a:off x="2124000" y="4654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9"/>
          <p:cNvSpPr/>
          <p:nvPr/>
        </p:nvSpPr>
        <p:spPr>
          <a:xfrm>
            <a:off x="2124000" y="5446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5148360" y="5805360"/>
            <a:ext cx="2663640" cy="719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5364000" y="1413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5651640" y="3716280"/>
            <a:ext cx="187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355000" y="587052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ión defin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8"/>
          <p:cNvSpPr/>
          <p:nvPr/>
        </p:nvSpPr>
        <p:spPr>
          <a:xfrm>
            <a:off x="3635280" y="61657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4:34:38Z</dcterms:created>
  <dc:creator> Jaime G.Sanchez C.</dc:creator>
  <dc:description/>
  <dc:language>en-US</dc:language>
  <cp:lastModifiedBy> Jaime G.Sanchez C.</cp:lastModifiedBy>
  <dcterms:modified xsi:type="dcterms:W3CDTF">2010-02-03T02:17:46Z</dcterms:modified>
  <cp:revision>22</cp:revision>
  <dc:subject/>
  <dc:title>Diapositiva 1</dc:title>
</cp:coreProperties>
</file>